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48D-C9E1-40C5-BB72-6324266E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620-FCE1-4F26-8DA7-30A7F508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F53-DB2A-430D-B73B-55AE411B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1F6-4EA2-4F6B-8C49-5A4C696C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5B0-8EED-475E-B685-7F40372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9B5-F393-4B94-A668-B8B8F6BE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324-2701-46FF-A4F7-042358BC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B48-B672-484B-8915-157B7ADA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206-5CFF-44AE-A29C-1D33DBD4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9B6-60A0-4DD0-B845-1B88DB7A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38B-A72D-4DDA-9CBE-36E11C95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6A6-ECA0-405F-B925-D234E855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D5AB-180F-4A93-A35C-9438EE833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a.com/wfb/photos/iraq/iraq_photos_17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arvesting date pal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6480" y="3346560"/>
            <a:ext cx="3140280" cy="329868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" descr=""/>
          <p:cNvPicPr/>
          <p:nvPr/>
        </p:nvPicPr>
        <p:blipFill>
          <a:blip r:embed="rId4"/>
          <a:stretch/>
        </p:blipFill>
        <p:spPr>
          <a:xfrm>
            <a:off x="2163600" y="-79200"/>
            <a:ext cx="1792440" cy="20239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5"/>
          <a:stretch/>
        </p:blipFill>
        <p:spPr>
          <a:xfrm>
            <a:off x="6192720" y="5224320"/>
            <a:ext cx="1738440" cy="4082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7" descr=""/>
          <p:cNvPicPr/>
          <p:nvPr/>
        </p:nvPicPr>
        <p:blipFill>
          <a:blip r:embed="rId6"/>
          <a:stretch/>
        </p:blipFill>
        <p:spPr>
          <a:xfrm>
            <a:off x="7023240" y="2786040"/>
            <a:ext cx="2127240" cy="438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lm iraq..jpg"/>
          <p:cNvPicPr/>
          <p:nvPr/>
        </p:nvPicPr>
        <p:blipFill>
          <a:blip r:embed="rId7"/>
          <a:stretch/>
        </p:blipFill>
        <p:spPr>
          <a:xfrm>
            <a:off x="0" y="0"/>
            <a:ext cx="220968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lm iraq clothes.jpg"/>
          <p:cNvPicPr/>
          <p:nvPr/>
        </p:nvPicPr>
        <p:blipFill>
          <a:blip r:embed="rId8"/>
          <a:stretch/>
        </p:blipFill>
        <p:spPr>
          <a:xfrm>
            <a:off x="6931080" y="-6480"/>
            <a:ext cx="2219400" cy="2962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3" descr=""/>
          <p:cNvPicPr/>
          <p:nvPr/>
        </p:nvPicPr>
        <p:blipFill>
          <a:blip r:embed="rId9"/>
          <a:stretch/>
        </p:blipFill>
        <p:spPr>
          <a:xfrm>
            <a:off x="-55440" y="6456240"/>
            <a:ext cx="2957400" cy="40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lm Iraq Cloce up.jpg"/>
          <p:cNvPicPr/>
          <p:nvPr/>
        </p:nvPicPr>
        <p:blipFill>
          <a:blip r:embed="rId10"/>
          <a:srcRect l="0" t="0" r="45243" b="21876"/>
          <a:stretch/>
        </p:blipFill>
        <p:spPr>
          <a:xfrm>
            <a:off x="3809880" y="0"/>
            <a:ext cx="312444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4" descr=""/>
          <p:cNvPicPr/>
          <p:nvPr/>
        </p:nvPicPr>
        <p:blipFill>
          <a:blip r:embed="rId11"/>
          <a:stretch/>
        </p:blipFill>
        <p:spPr>
          <a:xfrm>
            <a:off x="2687760" y="2408400"/>
            <a:ext cx="4176720" cy="29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ttp://t0.gstatic.com/images?q=tbn:ANd9GcQ7ssPv_s5A3HGN-BgkByuwBgdGCEj8LskQZbEbjrRemyypiWaq"/>
          <p:cNvPicPr/>
          <p:nvPr/>
        </p:nvPicPr>
        <p:blipFill>
          <a:blip r:embed="rId12"/>
          <a:stretch/>
        </p:blipFill>
        <p:spPr>
          <a:xfrm>
            <a:off x="7424640" y="3730680"/>
            <a:ext cx="1743120" cy="627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Flag of Iraq"/>
          <p:cNvPicPr/>
          <p:nvPr/>
        </p:nvPicPr>
        <p:blipFill>
          <a:blip r:embed="rId13"/>
          <a:stretch/>
        </p:blipFill>
        <p:spPr>
          <a:xfrm>
            <a:off x="3273480" y="5138640"/>
            <a:ext cx="3048120" cy="17258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14"/>
          <a:stretch/>
        </p:blipFill>
        <p:spPr>
          <a:xfrm>
            <a:off x="6802560" y="3395520"/>
            <a:ext cx="2347920" cy="42084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3" descr=""/>
          <p:cNvPicPr/>
          <p:nvPr/>
        </p:nvPicPr>
        <p:blipFill>
          <a:blip r:embed="rId15"/>
          <a:stretch/>
        </p:blipFill>
        <p:spPr>
          <a:xfrm>
            <a:off x="176040" y="3017880"/>
            <a:ext cx="21956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18:45:31Z</dcterms:modified>
  <cp:revision>29</cp:revision>
  <dc:subject/>
  <dc:title>Slide 1</dc:title>
</cp:coreProperties>
</file>